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1F3-94F5-491F-8854-BE2AAE16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91A-F7F6-416B-87A5-1D0C698D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45C-D410-4C7B-8FEA-2006264F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049-43B1-48A2-84BE-D544D3C8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BC8-FF41-4866-816B-F2DE184C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83F-DB75-4A79-8FD3-7CB0E012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BB8-793C-4E79-8373-DA8C0D4D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82A-FCD0-4F1B-A3F3-2A27C1B9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E29-1C2F-42FC-9758-6B277632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306-4EC8-40E1-A2DF-67EFDEC5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BBA-A6AB-4682-A707-8266C908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A87-E075-40CA-82D5-ACC0ED3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3DDE-DF6D-4576-B284-911A3E57F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in%20título-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n%20título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n%20título-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n%20título-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in%20título-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06:48Z</dcterms:created>
  <dc:creator>Grupo Editorial</dc:creator>
  <dc:description/>
  <dc:language>en-US</dc:language>
  <cp:lastModifiedBy>Grupo Editorial</cp:lastModifiedBy>
  <dcterms:modified xsi:type="dcterms:W3CDTF">2001-09-20T15:12:20Z</dcterms:modified>
  <cp:revision>1</cp:revision>
  <dc:subject/>
  <dc:title>Sin título de diapositiva</dc:title>
</cp:coreProperties>
</file>